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39.png" ContentType="image/png"/>
  <Override PartName="/ppt/media/image41.png" ContentType="image/png"/>
  <Override PartName="/ppt/media/image42.jpeg" ContentType="image/jpeg"/>
  <Override PartName="/ppt/media/image19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45.jpeg" ContentType="image/jpeg"/>
  <Override PartName="/ppt/media/image46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11.png" ContentType="image/png"/>
  <Override PartName="/ppt/media/image9.jpeg" ContentType="image/jpe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140C-DC6A-4E52-8073-77395B0AE5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the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r all the colors of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was a 10 meter segmented telescope – and the current larg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dition of  Keck II (another 10 meter telescope) makes a very large telescope a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was a 10 meter segmented telescope – and the current larges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ddition of  Keck II (another 10 meter telescope) makes a very large telescope array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eper the curve, the closer in the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have farther focal points, Radio telescopes have shorter 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deeper the curve, the closer in the focal poin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have farther focal points, Radio telescopes have shorter one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a sho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, they p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ondary mirr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to reflect it bac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ma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large telescop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desig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 make a short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, they pu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secondary mirror in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nt to reflect it back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rough the main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irror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st large telescope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 this desig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rschel’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ton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y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erschel’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Newtonia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inch Schmidt at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s of so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bject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nd com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4 inch Schmidt at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d for taking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mages of sola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 object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lanets and comet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are on Mountain t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lights of the cities, above the clouds, above the weath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 are in Valle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ing the radio noise made by cities, cars, and radio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and Gamma ray telescopes ar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 and Gamma rays can’t get through the atmosp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are on Mountain top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way from the lights of the cities, above the clouds, above the weather,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 are in Valley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oiding the radio noise made by cities, cars, and radio station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 and Gamma ray telescopes are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s and Gamma rays can’t get through the atmosphere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one kind of in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eing one kind of invisible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Grote Re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at NRAO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b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adio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Grote Reb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w at NRAO-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eenban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st Radio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Ear - OS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ismantl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ed by John Kr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Big Ear - OSU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dismantled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ed by John Kra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drell Bank - 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odrell Bank - U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to the tele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used to see the mo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Jupiter, the moo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 Lens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milar to the telescop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lileo used to see the moon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f Jupiter, the moon,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d Ven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s  Lense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RAO – Greenbank, W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0 foot telescope us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and a few other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Including Mr.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RAO – Greenbank, WV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40 foot telescope us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achers and a few other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     Including Mr.B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 M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100 M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ermany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’s Largest - Arecib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orld’s Largest - Arecib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LA – Socorro, 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VLA – Socorro, N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and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ound and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sible and Infrared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 the Ground and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rke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inch refr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rke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40 inch refract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oker – Mt Wil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ooker – Mt Wils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ale – Mt.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200 inch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lid glass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Hale – Mt.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200 inch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solid glass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and II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and II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ileo’s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lileo’s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aru –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ubaru –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S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tronom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A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fraRed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stronomy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atellit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TF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TF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it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xt genera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R telescope i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itz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Next generatio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IR telescope i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ac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 and Sub-millimeter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 and Sub-millimeter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CMT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m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erk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xwel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 sub-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CMT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ame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lerk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xwell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nd sub-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ly High Energ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or Cherenkov Radiation in the atmosphere to prove gamma rays are coming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mma 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ally High Energy!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ooking for Cherenkov Radiation in the atmosphere to prove gamma rays are coming i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mmam - Haleak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mmam - Haleakal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ipple – Gamma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hipple – Gamma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 foot long refracting telescop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Johannes Hevel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50 foot long refracting telescope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Johannes Heveli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ndra X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handra X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 (HEA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 (HEAO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zing Incidence X-Ra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azing Incidence X-Ray 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interesting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Other interesting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itt Peak – 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Kitt Peak – Solar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nda – Looking through the Earth for Neutri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manda – Looking through the Earth for Neutrino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Bef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Befor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Af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Refractor with guide 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 old Refractor with guide 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oh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d Brattst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claim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loha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d Brattstr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…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designed wi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econdary mi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eyepiece. You ju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eye near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and looked 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pieces and came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it all easier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sign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saac Newton –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iginally designed with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 secondary mirro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 eyepiece. You jus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ut your eye near th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p and looked in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yepieces and camera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de it all easier to us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arly Newtonia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Early Newtonian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ould make a glass mirror a LOT bigger than 40 inches – and it didn’t distort th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5 meter mirror (the Hale telescope at Mt. Palomar) was the largest for a long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, the largest Single Piece of glass telescope is 8 meters (Subaru and oth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could make a glass mirror a LOT bigger than 40 inches – and it didn’t distort the ligh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5 meter mirror (the Hale telescope at Mt. Palomar) was the largest for a long tim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urrently, the largest Single Piece of glass telescope is 8 meters (Subaru and others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E224-2DA1-4B1A-99B0-059D64D8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A264-495F-4328-8C15-95B7BD86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24B2-28C6-4503-947F-E4D3869D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1456-37BA-4DD3-A52C-D59E3927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4CDB-D5E1-4927-A887-633FA092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A8E9-E785-4517-A6FE-84C3527B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D120-CD94-42E7-856B-89532C37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3B4B-9C50-4736-B8F9-CAC525AF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C754-B1E8-4B5F-B9E5-C42D9850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0E17-DD64-4132-964C-6777C22E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7FFB-092D-42A8-A33A-1A86ACCC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67438-D722-4214-BA5B-472B5A61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B4C8-5DA7-483B-BDF5-BD225F41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AC50-1D1D-4B5A-8490-8F98CD70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5255-9746-4DF7-8804-429CB9BC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8A24-5285-4081-BD08-337550EA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2F68-A434-4B90-BB65-85710EFC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734A-26B4-49A4-B92E-5AE55F07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ADF7-77E7-4599-8F7D-79108EA5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4E61-E547-409F-A71A-A0154874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0C46A-B6E3-4639-BC4D-D3F48243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6F02-3154-4DE7-B548-A2E996FB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D6A0-B04F-4445-B45B-0AA27CE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1EC78-DB79-4F35-B7DF-4CDD3AA3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0665-B838-48ED-AF53-06AD10942F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3D76-FAFD-45C6-9C04-00610E0D16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elescop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 all the colors of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ck I was a 10 meter segmented telescope – and the current larg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 Keck II (another 10 meter telescope) makes a very large telescop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eper the curve, the closer in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telescopes have farther focal points, Radio telescopes have shorter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para-tel"/>
          <p:cNvPicPr/>
          <p:nvPr/>
        </p:nvPicPr>
        <p:blipFill>
          <a:blip r:embed="rId1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sho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, they pu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ary mirror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 to reflect it ba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ma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rge telescop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is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ass-Tele"/>
          <p:cNvPicPr/>
          <p:nvPr/>
        </p:nvPicPr>
        <p:blipFill>
          <a:blip r:embed="rId1"/>
          <a:stretch/>
        </p:blipFill>
        <p:spPr>
          <a:xfrm>
            <a:off x="4637160" y="0"/>
            <a:ext cx="45068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schel’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i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hershel-telescope"/>
          <p:cNvPicPr/>
          <p:nvPr/>
        </p:nvPicPr>
        <p:blipFill>
          <a:blip r:embed="rId1"/>
          <a:stretch/>
        </p:blipFill>
        <p:spPr>
          <a:xfrm>
            <a:off x="2948040" y="304920"/>
            <a:ext cx="6195960" cy="637200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inch Schmidt at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ta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of sol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object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s and com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hoemakers"/>
          <p:cNvPicPr/>
          <p:nvPr/>
        </p:nvPicPr>
        <p:blipFill>
          <a:blip r:embed="rId1"/>
          <a:stretch/>
        </p:blipFill>
        <p:spPr>
          <a:xfrm>
            <a:off x="4857840" y="1600200"/>
            <a:ext cx="3828960" cy="497664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cal Telescopes are on Mountain 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y from the lights of the cities, above the clouds, above the weat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o Telescopes are in Va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the radio noise made by cities, cars, and radio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-ray and Gamma ray telescopes are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s and Gamma rays can’t get through the atmosp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one kind of invisibl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Grote Re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t NRAO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grote2min"/>
          <p:cNvPicPr/>
          <p:nvPr/>
        </p:nvPicPr>
        <p:blipFill>
          <a:blip r:embed="rId1"/>
          <a:stretch/>
        </p:blipFill>
        <p:spPr>
          <a:xfrm>
            <a:off x="4492800" y="533520"/>
            <a:ext cx="5032080" cy="6324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grote6min"/>
          <p:cNvPicPr/>
          <p:nvPr/>
        </p:nvPicPr>
        <p:blipFill>
          <a:blip r:embed="rId2"/>
          <a:stretch/>
        </p:blipFill>
        <p:spPr>
          <a:xfrm>
            <a:off x="-457200" y="3151080"/>
            <a:ext cx="5410080" cy="3783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990360" y="4568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Radio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Ear - OSU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smant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John Kr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igearhp[1]"/>
          <p:cNvPicPr/>
          <p:nvPr/>
        </p:nvPicPr>
        <p:blipFill>
          <a:blip r:embed="rId1"/>
          <a:stretch/>
        </p:blipFill>
        <p:spPr>
          <a:xfrm>
            <a:off x="0" y="2700360"/>
            <a:ext cx="9601200" cy="423396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drell Bank -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Jodrell_Bank"/>
          <p:cNvPicPr/>
          <p:nvPr/>
        </p:nvPicPr>
        <p:blipFill>
          <a:blip r:embed="rId1"/>
          <a:stretch/>
        </p:blipFill>
        <p:spPr>
          <a:xfrm>
            <a:off x="914400" y="1274760"/>
            <a:ext cx="7467480" cy="5583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efr-Tele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7010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the telesco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 used to see the mo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Jupiter, the mo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 Len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RAO – Greenbank, W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radiotel[1]"/>
          <p:cNvPicPr/>
          <p:nvPr/>
        </p:nvPicPr>
        <p:blipFill>
          <a:blip r:embed="rId1"/>
          <a:stretch/>
        </p:blipFill>
        <p:spPr>
          <a:xfrm>
            <a:off x="4078440" y="1219320"/>
            <a:ext cx="4684680" cy="5562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40page[1]"/>
          <p:cNvPicPr/>
          <p:nvPr/>
        </p:nvPicPr>
        <p:blipFill>
          <a:blip r:embed="rId2"/>
          <a:stretch/>
        </p:blipFill>
        <p:spPr>
          <a:xfrm>
            <a:off x="304920" y="1905120"/>
            <a:ext cx="3047760" cy="3657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63880" y="568332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0 foot telescope used b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and a few othe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Including Mr.B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100m_dish[1]"/>
          <p:cNvPicPr/>
          <p:nvPr/>
        </p:nvPicPr>
        <p:blipFill>
          <a:blip r:embed="rId1"/>
          <a:stretch/>
        </p:blipFill>
        <p:spPr>
          <a:xfrm>
            <a:off x="2733840" y="0"/>
            <a:ext cx="6410160" cy="7162920"/>
          </a:xfrm>
          <a:prstGeom prst="rect">
            <a:avLst/>
          </a:prstGeom>
          <a:ln w="0">
            <a:noFill/>
          </a:ln>
        </p:spPr>
      </p:pic>
      <p:sp>
        <p:nvSpPr>
          <p:cNvPr id="1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’s Largest - Areci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arecibo[1]"/>
          <p:cNvPicPr/>
          <p:nvPr/>
        </p:nvPicPr>
        <p:blipFill>
          <a:blip r:embed="rId1"/>
          <a:stretch/>
        </p:blipFill>
        <p:spPr>
          <a:xfrm>
            <a:off x="800280" y="1238400"/>
            <a:ext cx="7543800" cy="5619600"/>
          </a:xfrm>
          <a:prstGeom prst="rect">
            <a:avLst/>
          </a:prstGeom>
          <a:ln w="0">
            <a:noFill/>
          </a:ln>
        </p:spPr>
      </p:pic>
      <p:sp>
        <p:nvSpPr>
          <p:cNvPr id="2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 – Socorro, 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Socorro VLA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 and Infr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Ground and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rkes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 inch refr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yerkes40[1]"/>
          <p:cNvPicPr/>
          <p:nvPr/>
        </p:nvPicPr>
        <p:blipFill>
          <a:blip r:embed="rId1"/>
          <a:stretch/>
        </p:blipFill>
        <p:spPr>
          <a:xfrm>
            <a:off x="276120" y="1981080"/>
            <a:ext cx="3305160" cy="4876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aculty_img11_lrg[1]"/>
          <p:cNvPicPr/>
          <p:nvPr/>
        </p:nvPicPr>
        <p:blipFill>
          <a:blip r:embed="rId2"/>
          <a:stretch/>
        </p:blipFill>
        <p:spPr>
          <a:xfrm>
            <a:off x="394344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ker – Mt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ooker[1]"/>
          <p:cNvPicPr/>
          <p:nvPr/>
        </p:nvPicPr>
        <p:blipFill>
          <a:blip r:embed="rId1"/>
          <a:stretch/>
        </p:blipFill>
        <p:spPr>
          <a:xfrm>
            <a:off x="3129120" y="1592280"/>
            <a:ext cx="6014880" cy="358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ooker[1]"/>
          <p:cNvPicPr/>
          <p:nvPr/>
        </p:nvPicPr>
        <p:blipFill>
          <a:blip r:embed="rId2"/>
          <a:srcRect l="4351" t="5102" r="4351" b="20392"/>
          <a:stretch/>
        </p:blipFill>
        <p:spPr>
          <a:xfrm>
            <a:off x="0" y="3581280"/>
            <a:ext cx="3733920" cy="25988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 – Mt.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in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et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g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001[1]"/>
          <p:cNvPicPr/>
          <p:nvPr/>
        </p:nvPicPr>
        <p:blipFill>
          <a:blip r:embed="rId1"/>
          <a:stretch/>
        </p:blipFill>
        <p:spPr>
          <a:xfrm>
            <a:off x="3429000" y="1636560"/>
            <a:ext cx="5562720" cy="50691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ck I and II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distantkecks[1]"/>
          <p:cNvPicPr/>
          <p:nvPr/>
        </p:nvPicPr>
        <p:blipFill>
          <a:blip r:embed="rId1"/>
          <a:srcRect l="0" t="19555" r="0" b="0"/>
          <a:stretch/>
        </p:blipFill>
        <p:spPr>
          <a:xfrm>
            <a:off x="0" y="1893960"/>
            <a:ext cx="9144000" cy="4965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keck_litepath[1]"/>
          <p:cNvPicPr/>
          <p:nvPr/>
        </p:nvPicPr>
        <p:blipFill>
          <a:blip r:embed="rId1"/>
          <a:stretch/>
        </p:blipFill>
        <p:spPr>
          <a:xfrm>
            <a:off x="1219320" y="685800"/>
            <a:ext cx="6400800" cy="580068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ileo’s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galileoscopes[1]"/>
          <p:cNvPicPr/>
          <p:nvPr/>
        </p:nvPicPr>
        <p:blipFill>
          <a:blip r:embed="rId1"/>
          <a:stretch/>
        </p:blipFill>
        <p:spPr>
          <a:xfrm>
            <a:off x="1828800" y="2666880"/>
            <a:ext cx="7010280" cy="387216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aru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una K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10m_subaru_tel_8m[1]"/>
          <p:cNvPicPr/>
          <p:nvPr/>
        </p:nvPicPr>
        <p:blipFill>
          <a:blip r:embed="rId1"/>
          <a:stretch/>
        </p:blipFill>
        <p:spPr>
          <a:xfrm>
            <a:off x="4172040" y="0"/>
            <a:ext cx="4971960" cy="7077240"/>
          </a:xfrm>
          <a:prstGeom prst="rect">
            <a:avLst/>
          </a:prstGeom>
          <a:ln w="0">
            <a:noFill/>
          </a:ln>
        </p:spPr>
      </p:pic>
      <p:sp>
        <p:nvSpPr>
          <p:cNvPr id="2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preview_hstlitho60[1]"/>
          <p:cNvPicPr/>
          <p:nvPr/>
        </p:nvPicPr>
        <p:blipFill>
          <a:blip r:embed="rId1"/>
          <a:stretch/>
        </p:blipFill>
        <p:spPr>
          <a:xfrm>
            <a:off x="380880" y="2743200"/>
            <a:ext cx="5156280" cy="389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st2[1]"/>
          <p:cNvPicPr/>
          <p:nvPr/>
        </p:nvPicPr>
        <p:blipFill>
          <a:blip r:embed="rId2"/>
          <a:stretch/>
        </p:blipFill>
        <p:spPr>
          <a:xfrm>
            <a:off x="4952880" y="380880"/>
            <a:ext cx="3915000" cy="4000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R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ronom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08-24-IRAS[1]"/>
          <p:cNvPicPr/>
          <p:nvPr/>
        </p:nvPicPr>
        <p:blipFill>
          <a:blip r:embed="rId1"/>
          <a:srcRect l="0" t="3701" r="0" b="2467"/>
          <a:stretch/>
        </p:blipFill>
        <p:spPr>
          <a:xfrm>
            <a:off x="4038480" y="609480"/>
            <a:ext cx="4114800" cy="57913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TF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IRTF"/>
          <p:cNvPicPr/>
          <p:nvPr/>
        </p:nvPicPr>
        <p:blipFill>
          <a:blip r:embed="rId1"/>
          <a:srcRect l="11828" t="0" r="5376" b="0"/>
          <a:stretch/>
        </p:blipFill>
        <p:spPr>
          <a:xfrm>
            <a:off x="0" y="1905120"/>
            <a:ext cx="5867280" cy="4671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awaii_irtf_telescope[1]"/>
          <p:cNvPicPr/>
          <p:nvPr/>
        </p:nvPicPr>
        <p:blipFill>
          <a:blip r:embed="rId2"/>
          <a:stretch/>
        </p:blipFill>
        <p:spPr>
          <a:xfrm>
            <a:off x="5589720" y="914400"/>
            <a:ext cx="3554280" cy="54561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telescop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SIRTF_ir_1small[1]"/>
          <p:cNvPicPr/>
          <p:nvPr/>
        </p:nvPicPr>
        <p:blipFill>
          <a:blip r:embed="rId1"/>
          <a:stretch/>
        </p:blipFill>
        <p:spPr>
          <a:xfrm>
            <a:off x="4191120" y="380880"/>
            <a:ext cx="4829040" cy="6438960"/>
          </a:xfrm>
          <a:prstGeom prst="rect">
            <a:avLst/>
          </a:prstGeom>
          <a:ln w="0">
            <a:noFill/>
          </a:ln>
        </p:spPr>
      </p:pic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limeter and Sub-millimeter Telesco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CMT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jcmt[1]"/>
          <p:cNvPicPr/>
          <p:nvPr/>
        </p:nvPicPr>
        <p:blipFill>
          <a:blip r:embed="rId1"/>
          <a:stretch/>
        </p:blipFill>
        <p:spPr>
          <a:xfrm>
            <a:off x="2421000" y="1563840"/>
            <a:ext cx="6723000" cy="52941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w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ub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 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High Energ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 Cherenkov Radiation in the atmosphere to prove gamma rays are com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m - Haleak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gamma-haleakala"/>
          <p:cNvPicPr/>
          <p:nvPr/>
        </p:nvPicPr>
        <p:blipFill>
          <a:blip r:embed="rId1"/>
          <a:stretch/>
        </p:blipFill>
        <p:spPr>
          <a:xfrm>
            <a:off x="3029040" y="2343240"/>
            <a:ext cx="6114960" cy="430380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pple – Gamma-ray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whipple-gamma"/>
          <p:cNvPicPr/>
          <p:nvPr/>
        </p:nvPicPr>
        <p:blipFill>
          <a:blip r:embed="rId1"/>
          <a:stretch/>
        </p:blipFill>
        <p:spPr>
          <a:xfrm>
            <a:off x="2590920" y="1600200"/>
            <a:ext cx="6172200" cy="483552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0 foot long refracting telescop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438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Johannes Heve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50ft-tel2[1]"/>
          <p:cNvPicPr/>
          <p:nvPr/>
        </p:nvPicPr>
        <p:blipFill>
          <a:blip r:embed="rId1"/>
          <a:stretch/>
        </p:blipFill>
        <p:spPr>
          <a:xfrm>
            <a:off x="2895480" y="1558800"/>
            <a:ext cx="6248520" cy="529920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dra X-Ray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chandracraft_med[1]"/>
          <p:cNvPicPr/>
          <p:nvPr/>
        </p:nvPicPr>
        <p:blipFill>
          <a:blip r:embed="rId1"/>
          <a:stretch/>
        </p:blipFill>
        <p:spPr>
          <a:xfrm>
            <a:off x="2286000" y="144792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 (HEA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xray_telescope[1]"/>
          <p:cNvPicPr/>
          <p:nvPr/>
        </p:nvPicPr>
        <p:blipFill>
          <a:blip r:embed="rId1"/>
          <a:stretch/>
        </p:blipFill>
        <p:spPr>
          <a:xfrm>
            <a:off x="3048120" y="1981080"/>
            <a:ext cx="5181480" cy="47707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ng Incidence X-Ray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xray_focus2[1]"/>
          <p:cNvPicPr/>
          <p:nvPr/>
        </p:nvPicPr>
        <p:blipFill>
          <a:blip r:embed="rId1"/>
          <a:stretch/>
        </p:blipFill>
        <p:spPr>
          <a:xfrm>
            <a:off x="380880" y="2286000"/>
            <a:ext cx="8686800" cy="4502160"/>
          </a:xfrm>
          <a:prstGeom prst="rect">
            <a:avLst/>
          </a:prstGeom>
          <a:ln w="0">
            <a:noFill/>
          </a:ln>
        </p:spPr>
      </p:pic>
      <p:sp>
        <p:nvSpPr>
          <p:cNvPr id="29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t Peak – Solar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02170a[1]"/>
          <p:cNvPicPr/>
          <p:nvPr/>
        </p:nvPicPr>
        <p:blipFill>
          <a:blip r:embed="rId1"/>
          <a:stretch/>
        </p:blipFill>
        <p:spPr>
          <a:xfrm>
            <a:off x="1295280" y="1703520"/>
            <a:ext cx="7848720" cy="51544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amanda-pengi[1]"/>
          <p:cNvPicPr/>
          <p:nvPr/>
        </p:nvPicPr>
        <p:blipFill>
          <a:blip r:embed="rId1"/>
          <a:stretch/>
        </p:blipFill>
        <p:spPr>
          <a:xfrm>
            <a:off x="4267080" y="1371600"/>
            <a:ext cx="4616640" cy="54864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nda – Looking through the Earth for Neutri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300ft_before_med[1]"/>
          <p:cNvPicPr/>
          <p:nvPr/>
        </p:nvPicPr>
        <p:blipFill>
          <a:blip r:embed="rId1"/>
          <a:stretch/>
        </p:blipFill>
        <p:spPr>
          <a:xfrm>
            <a:off x="1371600" y="1600200"/>
            <a:ext cx="7772400" cy="5297400"/>
          </a:xfrm>
          <a:prstGeom prst="rect">
            <a:avLst/>
          </a:prstGeom>
          <a:ln w="0">
            <a:noFill/>
          </a:ln>
        </p:spPr>
      </p:pic>
      <p:sp>
        <p:nvSpPr>
          <p:cNvPr id="3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300ft_after_med[1]"/>
          <p:cNvPicPr/>
          <p:nvPr/>
        </p:nvPicPr>
        <p:blipFill>
          <a:blip r:embed="rId1"/>
          <a:stretch/>
        </p:blipFill>
        <p:spPr>
          <a:xfrm>
            <a:off x="533520" y="3095640"/>
            <a:ext cx="9219960" cy="62006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-1143000" y="0"/>
            <a:ext cx="11430000" cy="8163000"/>
          </a:xfrm>
          <a:prstGeom prst="rect">
            <a:avLst/>
          </a:prstGeom>
          <a:ln w="0">
            <a:noFill/>
          </a:ln>
        </p:spPr>
      </p:pic>
      <p:sp>
        <p:nvSpPr>
          <p:cNvPr id="31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ld Refractor with guide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40[1]"/>
          <p:cNvPicPr/>
          <p:nvPr/>
        </p:nvPicPr>
        <p:blipFill>
          <a:blip r:embed="rId1"/>
          <a:stretch/>
        </p:blipFill>
        <p:spPr>
          <a:xfrm>
            <a:off x="4133880" y="1523880"/>
            <a:ext cx="5010120" cy="541044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hot-02c-04-preview[1]"/>
          <p:cNvPicPr/>
          <p:nvPr/>
        </p:nvPicPr>
        <p:blipFill>
          <a:blip r:embed="rId1"/>
          <a:stretch/>
        </p:blipFill>
        <p:spPr>
          <a:xfrm>
            <a:off x="685800" y="501480"/>
            <a:ext cx="7848720" cy="6356520"/>
          </a:xfrm>
          <a:prstGeom prst="rect">
            <a:avLst/>
          </a:prstGeom>
          <a:ln w="0">
            <a:noFill/>
          </a:ln>
        </p:spPr>
      </p:pic>
      <p:sp>
        <p:nvSpPr>
          <p:cNvPr id="3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telescopes[1]"/>
          <p:cNvPicPr/>
          <p:nvPr/>
        </p:nvPicPr>
        <p:blipFill>
          <a:blip r:embed="rId1"/>
          <a:stretch/>
        </p:blipFill>
        <p:spPr>
          <a:xfrm>
            <a:off x="609480" y="423720"/>
            <a:ext cx="8077320" cy="6357960"/>
          </a:xfrm>
          <a:prstGeom prst="rect">
            <a:avLst/>
          </a:prstGeom>
          <a:ln w="0">
            <a:noFill/>
          </a:ln>
        </p:spPr>
      </p:pic>
      <p:sp>
        <p:nvSpPr>
          <p:cNvPr id="3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ut together these power points for use in my science class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use them in your class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 Brattst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Newt-Tele"/>
          <p:cNvPicPr/>
          <p:nvPr/>
        </p:nvPicPr>
        <p:blipFill>
          <a:blip r:embed="rId1"/>
          <a:stretch/>
        </p:blipFill>
        <p:spPr>
          <a:xfrm>
            <a:off x="4332240" y="0"/>
            <a:ext cx="48117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b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ac Newton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designed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condary mirr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eyepiece. You ju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eye nea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and looked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pieces and camer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t all easier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newtonscope1[1]"/>
          <p:cNvPicPr/>
          <p:nvPr/>
        </p:nvPicPr>
        <p:blipFill>
          <a:blip r:embed="rId1"/>
          <a:stretch/>
        </p:blipFill>
        <p:spPr>
          <a:xfrm>
            <a:off x="4343400" y="685800"/>
            <a:ext cx="4410000" cy="6019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Newtonian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make a g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T bigger than 40 inches – and it didn’t distort th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5 meter mirror (the Hale telescope at Mt. Palomar) was the largest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, the largest Single Piece of glass telescope is 8 meters (Subaru and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5:34:00Z</dcterms:created>
  <dc:creator>Ted Brattstrom</dc:creator>
  <dc:description/>
  <dc:language>en-US</dc:language>
  <cp:lastModifiedBy>LEGION</cp:lastModifiedBy>
  <dcterms:modified xsi:type="dcterms:W3CDTF">2018-03-22T10:29:45Z</dcterms:modified>
  <cp:revision>35</cp:revision>
  <dc:subject/>
  <dc:title>Telescopes</dc:title>
</cp:coreProperties>
</file>